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5E5-35A1-4E4D-A193-26C53881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7A0-08C6-4A3F-B517-BC0A717A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4FE-F178-4B9B-8EAF-B0F2CE02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D6B-1B44-4097-8DC7-0587B922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F4D-F770-4931-96A3-731A6C23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81C-4FEA-4C24-8E6D-7A086E73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55D-CD20-4070-A4D6-C123513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17B-81C1-47B2-B0F6-F332AF3B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160-385F-4DFC-A13F-AAF75EF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2A0-09C2-46E6-A7C0-984500AD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AE0-F68D-48FA-B644-E6D96BF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724-4180-4FED-B374-A569A1C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16C3-5C76-4FD6-9E13-261549BF6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1043;&#1086;&#1088;&#1086;&#1076;.ppt" TargetMode="External"/><Relationship Id="rId3" Type="http://schemas.openxmlformats.org/officeDocument/2006/relationships/hyperlink" Target="&#1040;&#1088;&#1093;&#1080;&#1090;&#1077;&#1082;&#1090;&#1091;&#1088;&#1072;.ppt" TargetMode="External"/><Relationship Id="rId4" Type="http://schemas.openxmlformats.org/officeDocument/2006/relationships/hyperlink" Target="&#1043;&#1077;&#1086;&#1075;&#1088;&#1072;&#1092;&#1080;&#1103;.ppt" TargetMode="External"/><Relationship Id="rId5" Type="http://schemas.openxmlformats.org/officeDocument/2006/relationships/hyperlink" Target="&#1050;&#1059;&#1051;&#1068;&#1058;&#1059;&#1056;&#1040;.ppt" TargetMode="External"/><Relationship Id="rId6" Type="http://schemas.openxmlformats.org/officeDocument/2006/relationships/hyperlink" Target="&#1053;&#1072;&#1096;%2520&#1083;&#1080;&#1094;&#1077;&#1081;.ppt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33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Heavy"/>
              </a:rPr>
              <a:t>История города Барнаула в математических задач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7380360" y="2133720"/>
            <a:ext cx="1439640" cy="50472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82" h="21600">
                <a:moveTo>
                  <a:pt x="0" y="0"/>
                </a:moveTo>
                <a:lnTo>
                  <a:pt x="61582" y="0"/>
                </a:lnTo>
                <a:lnTo>
                  <a:pt x="61582" y="21600"/>
                </a:lnTo>
                <a:lnTo>
                  <a:pt x="0" y="21600"/>
                </a:lnTo>
                <a:close/>
              </a:path>
              <a:path fill="lightenLess" w="61582" h="21600">
                <a:moveTo>
                  <a:pt x="0" y="0"/>
                </a:moveTo>
                <a:lnTo>
                  <a:pt x="61582" y="0"/>
                </a:lnTo>
                <a:lnTo>
                  <a:pt x="60182" y="1400"/>
                </a:lnTo>
                <a:lnTo>
                  <a:pt x="1400" y="1400"/>
                </a:lnTo>
                <a:close/>
              </a:path>
              <a:path fill="darken" w="61582" h="21600">
                <a:moveTo>
                  <a:pt x="61582" y="0"/>
                </a:moveTo>
                <a:lnTo>
                  <a:pt x="61582" y="21600"/>
                </a:lnTo>
                <a:lnTo>
                  <a:pt x="60182" y="20200"/>
                </a:lnTo>
                <a:lnTo>
                  <a:pt x="60182" y="1400"/>
                </a:lnTo>
                <a:close/>
              </a:path>
              <a:path fill="darkenLess" w="61582" h="21600">
                <a:moveTo>
                  <a:pt x="61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82" y="20200"/>
                </a:lnTo>
                <a:close/>
              </a:path>
              <a:path fill="lighten" w="61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582" h="21600">
                <a:moveTo>
                  <a:pt x="23785" y="3794"/>
                </a:moveTo>
                <a:lnTo>
                  <a:pt x="37798" y="10800"/>
                </a:lnTo>
                <a:lnTo>
                  <a:pt x="23785" y="17806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96360" y="1700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7380360" y="3573360"/>
            <a:ext cx="1439640" cy="505080"/>
          </a:xfrm>
          <a:custGeom>
            <a:avLst/>
            <a:gdLst>
              <a:gd name="textAreaLeft" fmla="*/ 32760 w 1439640"/>
              <a:gd name="textAreaRight" fmla="*/ 1407240 w 143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61538" h="21600">
                <a:moveTo>
                  <a:pt x="0" y="0"/>
                </a:moveTo>
                <a:lnTo>
                  <a:pt x="61538" y="0"/>
                </a:lnTo>
                <a:lnTo>
                  <a:pt x="61538" y="21600"/>
                </a:lnTo>
                <a:lnTo>
                  <a:pt x="0" y="21600"/>
                </a:lnTo>
                <a:close/>
              </a:path>
              <a:path fill="lightenLess" w="61538" h="21600">
                <a:moveTo>
                  <a:pt x="0" y="0"/>
                </a:moveTo>
                <a:lnTo>
                  <a:pt x="61538" y="0"/>
                </a:lnTo>
                <a:lnTo>
                  <a:pt x="60138" y="1400"/>
                </a:lnTo>
                <a:lnTo>
                  <a:pt x="1400" y="1400"/>
                </a:lnTo>
                <a:close/>
              </a:path>
              <a:path fill="darken" w="61538" h="21600">
                <a:moveTo>
                  <a:pt x="61538" y="0"/>
                </a:moveTo>
                <a:lnTo>
                  <a:pt x="61538" y="21600"/>
                </a:lnTo>
                <a:lnTo>
                  <a:pt x="60138" y="20200"/>
                </a:lnTo>
                <a:lnTo>
                  <a:pt x="60138" y="1400"/>
                </a:lnTo>
                <a:close/>
              </a:path>
              <a:path fill="darkenLess" w="61538" h="21600">
                <a:moveTo>
                  <a:pt x="61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8" y="20200"/>
                </a:lnTo>
                <a:close/>
              </a:path>
              <a:path fill="lighten" w="61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538" h="21600">
                <a:moveTo>
                  <a:pt x="23763" y="3794"/>
                </a:moveTo>
                <a:lnTo>
                  <a:pt x="37776" y="10800"/>
                </a:lnTo>
                <a:lnTo>
                  <a:pt x="2376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213000"/>
            <a:ext cx="21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рхите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/>
          </p:cNvPr>
          <p:cNvSpPr/>
          <p:nvPr/>
        </p:nvSpPr>
        <p:spPr>
          <a:xfrm>
            <a:off x="7451640" y="5157720"/>
            <a:ext cx="1440000" cy="50472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98" h="21600">
                <a:moveTo>
                  <a:pt x="0" y="0"/>
                </a:moveTo>
                <a:lnTo>
                  <a:pt x="61598" y="0"/>
                </a:lnTo>
                <a:lnTo>
                  <a:pt x="61598" y="21600"/>
                </a:lnTo>
                <a:lnTo>
                  <a:pt x="0" y="21600"/>
                </a:lnTo>
                <a:close/>
              </a:path>
              <a:path fill="lightenLess" w="61598" h="21600">
                <a:moveTo>
                  <a:pt x="0" y="0"/>
                </a:moveTo>
                <a:lnTo>
                  <a:pt x="61598" y="0"/>
                </a:lnTo>
                <a:lnTo>
                  <a:pt x="60198" y="1400"/>
                </a:lnTo>
                <a:lnTo>
                  <a:pt x="1400" y="1400"/>
                </a:lnTo>
                <a:close/>
              </a:path>
              <a:path fill="darken" w="61598" h="21600">
                <a:moveTo>
                  <a:pt x="61598" y="0"/>
                </a:moveTo>
                <a:lnTo>
                  <a:pt x="61598" y="21600"/>
                </a:lnTo>
                <a:lnTo>
                  <a:pt x="60198" y="20200"/>
                </a:lnTo>
                <a:lnTo>
                  <a:pt x="60198" y="1400"/>
                </a:lnTo>
                <a:close/>
              </a:path>
              <a:path fill="darkenLess" w="61598" h="21600">
                <a:moveTo>
                  <a:pt x="61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98" y="20200"/>
                </a:lnTo>
                <a:close/>
              </a:path>
              <a:path fill="lighten" w="61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598" h="21600">
                <a:moveTo>
                  <a:pt x="23792" y="3794"/>
                </a:moveTo>
                <a:lnTo>
                  <a:pt x="37805" y="10800"/>
                </a:lnTo>
                <a:lnTo>
                  <a:pt x="23792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48360" y="5229360"/>
            <a:ext cx="21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7242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/>
          </p:cNvPr>
          <p:cNvSpPr/>
          <p:nvPr/>
        </p:nvSpPr>
        <p:spPr>
          <a:xfrm>
            <a:off x="250920" y="2205000"/>
            <a:ext cx="1512720" cy="5032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93" h="21600">
                <a:moveTo>
                  <a:pt x="0" y="0"/>
                </a:moveTo>
                <a:lnTo>
                  <a:pt x="64893" y="0"/>
                </a:lnTo>
                <a:lnTo>
                  <a:pt x="64893" y="21600"/>
                </a:lnTo>
                <a:lnTo>
                  <a:pt x="0" y="21600"/>
                </a:lnTo>
                <a:close/>
              </a:path>
              <a:path fill="lightenLess" w="64893" h="21600">
                <a:moveTo>
                  <a:pt x="0" y="0"/>
                </a:moveTo>
                <a:lnTo>
                  <a:pt x="64893" y="0"/>
                </a:lnTo>
                <a:lnTo>
                  <a:pt x="63493" y="1400"/>
                </a:lnTo>
                <a:lnTo>
                  <a:pt x="1400" y="1400"/>
                </a:lnTo>
                <a:close/>
              </a:path>
              <a:path fill="darken" w="64893" h="21600">
                <a:moveTo>
                  <a:pt x="64893" y="0"/>
                </a:moveTo>
                <a:lnTo>
                  <a:pt x="64893" y="21600"/>
                </a:lnTo>
                <a:lnTo>
                  <a:pt x="63493" y="20200"/>
                </a:lnTo>
                <a:lnTo>
                  <a:pt x="63493" y="1400"/>
                </a:lnTo>
                <a:close/>
              </a:path>
              <a:path fill="darkenLess" w="64893" h="21600">
                <a:moveTo>
                  <a:pt x="64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93" y="20200"/>
                </a:lnTo>
                <a:close/>
              </a:path>
              <a:path fill="lighten" w="64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93" h="21600">
                <a:moveTo>
                  <a:pt x="25440" y="10800"/>
                </a:moveTo>
                <a:lnTo>
                  <a:pt x="39453" y="3794"/>
                </a:lnTo>
                <a:lnTo>
                  <a:pt x="39453" y="17806"/>
                </a:lnTo>
                <a:close/>
              </a:path>
            </a:pathLst>
          </a:custGeom>
          <a:solidFill>
            <a:srgbClr val="cc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62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/>
          </p:cNvPr>
          <p:cNvSpPr/>
          <p:nvPr/>
        </p:nvSpPr>
        <p:spPr>
          <a:xfrm>
            <a:off x="250920" y="5157720"/>
            <a:ext cx="1512720" cy="5032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93" h="21600">
                <a:moveTo>
                  <a:pt x="0" y="0"/>
                </a:moveTo>
                <a:lnTo>
                  <a:pt x="64893" y="0"/>
                </a:lnTo>
                <a:lnTo>
                  <a:pt x="64893" y="21600"/>
                </a:lnTo>
                <a:lnTo>
                  <a:pt x="0" y="21600"/>
                </a:lnTo>
                <a:close/>
              </a:path>
              <a:path fill="lightenLess" w="64893" h="21600">
                <a:moveTo>
                  <a:pt x="0" y="0"/>
                </a:moveTo>
                <a:lnTo>
                  <a:pt x="64893" y="0"/>
                </a:lnTo>
                <a:lnTo>
                  <a:pt x="63493" y="1400"/>
                </a:lnTo>
                <a:lnTo>
                  <a:pt x="1400" y="1400"/>
                </a:lnTo>
                <a:close/>
              </a:path>
              <a:path fill="darken" w="64893" h="21600">
                <a:moveTo>
                  <a:pt x="64893" y="0"/>
                </a:moveTo>
                <a:lnTo>
                  <a:pt x="64893" y="21600"/>
                </a:lnTo>
                <a:lnTo>
                  <a:pt x="63493" y="20200"/>
                </a:lnTo>
                <a:lnTo>
                  <a:pt x="63493" y="1400"/>
                </a:lnTo>
                <a:close/>
              </a:path>
              <a:path fill="darkenLess" w="64893" h="21600">
                <a:moveTo>
                  <a:pt x="64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93" y="20200"/>
                </a:lnTo>
                <a:close/>
              </a:path>
              <a:path fill="lighten" w="64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93" h="21600">
                <a:moveTo>
                  <a:pt x="25440" y="10800"/>
                </a:moveTo>
                <a:lnTo>
                  <a:pt x="39453" y="3794"/>
                </a:lnTo>
                <a:lnTo>
                  <a:pt x="39453" y="17806"/>
                </a:lnTo>
                <a:close/>
              </a:path>
            </a:pathLst>
          </a:cu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653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аш л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2700360" y="5734080"/>
            <a:ext cx="3744720" cy="836640"/>
          </a:xfrm>
          <a:custGeom>
            <a:avLst/>
            <a:gdLst>
              <a:gd name="textAreaLeft" fmla="*/ 54000 w 3744720"/>
              <a:gd name="textAreaRight" fmla="*/ 3690720 w 37447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96647" h="21600">
                <a:moveTo>
                  <a:pt x="0" y="0"/>
                </a:moveTo>
                <a:lnTo>
                  <a:pt x="96647" y="0"/>
                </a:lnTo>
                <a:lnTo>
                  <a:pt x="96647" y="21600"/>
                </a:lnTo>
                <a:lnTo>
                  <a:pt x="0" y="21600"/>
                </a:lnTo>
                <a:close/>
              </a:path>
              <a:path fill="lightenLess" w="96647" h="21600">
                <a:moveTo>
                  <a:pt x="0" y="0"/>
                </a:moveTo>
                <a:lnTo>
                  <a:pt x="96647" y="0"/>
                </a:lnTo>
                <a:lnTo>
                  <a:pt x="95247" y="1400"/>
                </a:lnTo>
                <a:lnTo>
                  <a:pt x="1400" y="1400"/>
                </a:lnTo>
                <a:close/>
              </a:path>
              <a:path fill="darken" w="96647" h="21600">
                <a:moveTo>
                  <a:pt x="96647" y="0"/>
                </a:moveTo>
                <a:lnTo>
                  <a:pt x="96647" y="21600"/>
                </a:lnTo>
                <a:lnTo>
                  <a:pt x="95247" y="20200"/>
                </a:lnTo>
                <a:lnTo>
                  <a:pt x="95247" y="1400"/>
                </a:lnTo>
                <a:close/>
              </a:path>
              <a:path fill="darkenLess" w="96647" h="21600">
                <a:moveTo>
                  <a:pt x="96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247" y="20200"/>
                </a:lnTo>
                <a:close/>
              </a:path>
              <a:path fill="lighten" w="96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595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ы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1773360"/>
            <a:ext cx="3889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полнила Камнева Анн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 курс, ПЛ№12 г.Барна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ководитель Шаталова Л.Л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подава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 №12 г.Барна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4:47:22Z</dcterms:created>
  <dc:creator>stud</dc:creator>
  <dc:description/>
  <dc:language>en-US</dc:language>
  <cp:lastModifiedBy>User</cp:lastModifiedBy>
  <dcterms:modified xsi:type="dcterms:W3CDTF">2008-12-22T09:50:58Z</dcterms:modified>
  <cp:revision>7</cp:revision>
  <dc:subject/>
  <dc:title>Слайд 1</dc:title>
</cp:coreProperties>
</file>